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1CD-D437-471D-9C6F-D1C887E5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3EC-28F5-49E8-9720-6AAA79FB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901-BB5B-43CD-8B3A-26CFB65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205-36EC-4220-B83D-FDF29AF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CAE-9B92-4DD8-ACD8-D077C81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4D7-4379-4412-ADE9-13FF569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1CF-C7EE-4B46-9FE4-4992D28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023-CCCD-4872-B1D4-356B0C68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975-C0AE-4B88-A1F1-3201849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B3A-9062-4BED-8578-D7024F5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438-2443-4067-AB72-3270A5B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4B6-DDC7-4F82-9D8C-87CE1B6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E21-5FC2-44AD-A52F-302F96057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557360"/>
            <a:ext cx="43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1989000"/>
            <a:ext cx="43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1628640"/>
            <a:ext cx="3445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0" y="2060640"/>
            <a:ext cx="3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96000" y="1557360"/>
            <a:ext cx="3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3933720"/>
            <a:ext cx="4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95640" y="4365720"/>
            <a:ext cx="28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4581360"/>
            <a:ext cx="41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67280" y="4437000"/>
            <a:ext cx="43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Impact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076640"/>
            <a:ext cx="43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56360" y="3933720"/>
            <a:ext cx="43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64360" y="4365720"/>
            <a:ext cx="36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6000" y="549360"/>
            <a:ext cx="1323720" cy="140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9960" y="2080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paintings from austrian children behind each let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Just click on it! Have fun </a:t>
            </a:r>
            <a:r>
              <a:rPr b="0" lang="de-DE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52600" y="673200"/>
            <a:ext cx="4438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95280" y="587700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24000" y="6021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6:35:49Z</dcterms:created>
  <dc:creator>Kindergarten</dc:creator>
  <dc:description/>
  <dc:language>en-US</dc:language>
  <cp:lastModifiedBy>Kindergarten</cp:lastModifiedBy>
  <dcterms:modified xsi:type="dcterms:W3CDTF">2011-01-25T12:03:03Z</dcterms:modified>
  <cp:revision>18</cp:revision>
  <dc:subject/>
  <dc:title>Folie 1</dc:title>
</cp:coreProperties>
</file>